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3B685-27B1-4AB3-A72F-9DF042F4E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5E236-D8C9-4052-A724-1F160F160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64F4A-9B1C-4381-8461-2A2D7AF62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F30AD-A751-43F5-B1EC-AF2C29EEB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84260-0958-483F-8FAA-FF353B79D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933BB-8AF3-49E5-ACB3-51909264B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8C8F0-BD49-4EB0-8158-61B6FD99F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434B0-0527-4837-9EB0-D563F6AC6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FC590-32B3-448F-B624-360F9663F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91B33-0A2D-44C3-BCB1-5C8DAD863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7043D-58AD-40C2-9B62-022643811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FFC76-0852-4EA8-9A1D-91DC4BD2C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DE018-1A55-4819-8732-EB408E405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BE5A9-B116-41C2-B090-83C227C9D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5392B-6005-4595-9886-06C1FE64D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F9F3C-CF1B-4C19-AB20-10B9B7683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9C5E3-C248-4223-A89F-72CFEC73D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45C4D-976B-4E74-91F4-A185BFCE9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A47E1-79C4-460C-9916-86ACA4B70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0D272-DB54-41D0-958C-F8D1334CE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903A5-3640-4846-A7C9-EA5DDDFAA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C660E-AA72-4EE1-AEFD-ACD3E63A2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5F744-6387-45BB-9338-1A3701140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43118-66AC-4247-AC78-6865D108B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anabnr2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80737-E6C9-4789-9CC6-F5B09F79289F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ANABNR2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09A9D-FA82-4971-A200-F4B52D3ED2BE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2" marL="914400" indent="227160" algn="ctr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3" marL="1371600" indent="112680" algn="ctr"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8.02</a:t>
            </a: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038320" y="43513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Home Safety and Security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TOUCH PAD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Lucida Sans"/>
                <a:ea typeface="Times New Roman"/>
              </a:rPr>
              <a:t>Used to enter a specific code to open a door such as garage or activate an alarm system inside the home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DOOR VIEWER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Lucida Sans"/>
                <a:ea typeface="Times New Roman"/>
              </a:rPr>
              <a:t>Piece of hardware installed with a lens in order to see who is on the other side of the door. 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Lucida Sans"/>
                <a:ea typeface="Times New Roman"/>
              </a:rPr>
              <a:t>Best to place 2 heights so children can see as well as adults. 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Lighting for Safety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Motion Sensor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Lucida Sans"/>
                <a:ea typeface="Times New Roman"/>
              </a:rPr>
              <a:t>Lighting that is set to come on when there is any motion within set number of feet from light.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Lucida Sans"/>
                <a:ea typeface="Times New Roman"/>
              </a:rPr>
              <a:t>Can be set off by any movement and will stay on for specified amount of time (usually 5 minutes).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Lucida Sans"/>
                <a:ea typeface="Times New Roman"/>
              </a:rPr>
              <a:t>Generally placed outdoors at corners of house, over garage door, near storage buildings,etc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Timer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Lucida Sans"/>
              </a:rPr>
              <a:t>Used to turn lights or other electronic devises on and off at certain times of the day and nights.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Lucida Sans"/>
              </a:rPr>
              <a:t>Each timer can be set differently in each room to give the appearance of movement inside the home.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UL SEAL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Lucida Sans"/>
              </a:rPr>
              <a:t>(Underwriters Laboratories) found on all electrical items to show that the item meets certain safety standards when used properly.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Lucida Sans"/>
                <a:ea typeface="Times New Roman"/>
              </a:rPr>
              <a:t> 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Fire Safety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Smoke Detector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Lucida Sans"/>
                <a:ea typeface="Times New Roman"/>
              </a:rPr>
              <a:t>Sends a loud warning signal if a fire start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Lucida Sans"/>
                <a:ea typeface="Times New Roman"/>
              </a:rPr>
              <a:t>Easy to instal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Lucida Sans"/>
                <a:ea typeface="Times New Roman"/>
              </a:rPr>
              <a:t>Should be placed on each floor of home/building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Lucida Sans"/>
                <a:ea typeface="Times New Roman"/>
              </a:rPr>
              <a:t>Usually battery operated, should be checked every 6 months to one year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Fire Extinguisher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Lucida Sans"/>
                <a:ea typeface="Times New Roman"/>
              </a:rPr>
              <a:t>Classified by type of burning materials they handle, should be placed in kitchens, garages, basements, on each floor of house/building.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5b5249"/>
                </a:solidFill>
                <a:uFillTx/>
                <a:latin typeface="Lucida Sans"/>
                <a:ea typeface="Times New Roman"/>
              </a:rPr>
              <a:t>Class A</a:t>
            </a:r>
            <a:r>
              <a:rPr b="0" lang="en-US" sz="2000" spc="-1" strike="noStrike">
                <a:solidFill>
                  <a:srgbClr val="5b5249"/>
                </a:solidFill>
                <a:latin typeface="Lucida Sans"/>
                <a:ea typeface="Times New Roman"/>
              </a:rPr>
              <a:t>: paper, wood, fabric, other “ordinary combustibles”, made from WATER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5b5249"/>
                </a:solidFill>
                <a:uFillTx/>
                <a:latin typeface="Lucida Sans"/>
                <a:ea typeface="Times New Roman"/>
              </a:rPr>
              <a:t>Class B</a:t>
            </a:r>
            <a:r>
              <a:rPr b="0" lang="en-US" sz="2000" spc="-1" strike="noStrike">
                <a:solidFill>
                  <a:srgbClr val="5b5249"/>
                </a:solidFill>
                <a:latin typeface="Lucida Sans"/>
                <a:ea typeface="Times New Roman"/>
              </a:rPr>
              <a:t>: liquids (cooking oil/grease), gases, paints, solvents, made from FOAM, CHEMICAL, DRY-POWDER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5b5249"/>
                </a:solidFill>
                <a:uFillTx/>
                <a:latin typeface="Lucida Sans"/>
                <a:ea typeface="Times New Roman"/>
              </a:rPr>
              <a:t>Class C</a:t>
            </a:r>
            <a:r>
              <a:rPr b="0" lang="en-US" sz="2000" spc="-1" strike="noStrike">
                <a:solidFill>
                  <a:srgbClr val="5b5249"/>
                </a:solidFill>
                <a:latin typeface="Lucida Sans"/>
                <a:ea typeface="Times New Roman"/>
              </a:rPr>
              <a:t>:</a:t>
            </a:r>
            <a:r>
              <a:rPr b="0" lang="en-US" sz="2800" spc="-1" strike="noStrike">
                <a:solidFill>
                  <a:srgbClr val="5b5249"/>
                </a:solidFill>
                <a:latin typeface="Lucida Sans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5b5249"/>
                </a:solidFill>
                <a:latin typeface="Lucida Sans"/>
                <a:ea typeface="Times New Roman"/>
              </a:rPr>
              <a:t>electrical fires, made from CARBON DIOXIDE</a:t>
            </a: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Home Security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LOCK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5b5249"/>
                </a:solidFill>
                <a:uFillTx/>
                <a:latin typeface="Lucida Sans"/>
              </a:rPr>
              <a:t>Deadbolts:</a:t>
            </a:r>
            <a:r>
              <a:rPr b="0" lang="en-US" sz="2800" spc="-1" strike="noStrike">
                <a:solidFill>
                  <a:srgbClr val="5b5249"/>
                </a:solidFill>
                <a:latin typeface="Lucida Sans"/>
              </a:rPr>
              <a:t> lock bolt that unlocks by turning a knob or key without the action of a spring. For safety, use a lock that requires that a key be used to open from inside and outside.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Lucida Sans"/>
              </a:rPr>
              <a:t> </a:t>
            </a:r>
            <a:r>
              <a:rPr b="0" lang="en-US" sz="2800" spc="-1" strike="noStrike">
                <a:solidFill>
                  <a:srgbClr val="5b5249"/>
                </a:solidFill>
                <a:latin typeface="Lucida Sans"/>
              </a:rPr>
              <a:t>Bolt should extend into the doorjamb a minimum of 1 inch.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Lucida Sans"/>
              </a:rPr>
              <a:t>Doors with this type lock </a:t>
            </a:r>
            <a:r>
              <a:rPr b="0" lang="en-US" sz="2800" spc="-1" strike="noStrike" u="sng">
                <a:solidFill>
                  <a:srgbClr val="5b5249"/>
                </a:solidFill>
                <a:uFillTx/>
                <a:latin typeface="Lucida Sans"/>
              </a:rPr>
              <a:t>cannot</a:t>
            </a:r>
            <a:r>
              <a:rPr b="0" lang="en-US" sz="2800" spc="-1" strike="noStrike">
                <a:solidFill>
                  <a:srgbClr val="5b5249"/>
                </a:solidFill>
                <a:latin typeface="Lucida Sans"/>
              </a:rPr>
              <a:t> be opened with a credit card or screwdriver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Locks (con’t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411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1480" indent="-41148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5b5249"/>
                </a:solidFill>
                <a:uFillTx/>
                <a:latin typeface="Lucida Sans"/>
              </a:rPr>
              <a:t>Spring locks</a:t>
            </a:r>
            <a:r>
              <a:rPr b="0" lang="en-US" sz="2800" spc="-1" strike="noStrike">
                <a:solidFill>
                  <a:srgbClr val="5b5249"/>
                </a:solidFill>
                <a:latin typeface="Lucida Sans"/>
              </a:rPr>
              <a:t>: commonly found on interior doors. Usually a lock on the door knob that turns to lock from one side. Can be opened from opposite side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1480" indent="-41148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5b5249"/>
                </a:solidFill>
                <a:uFillTx/>
                <a:latin typeface="Lucida Sans"/>
              </a:rPr>
              <a:t>Window locks</a:t>
            </a:r>
            <a:r>
              <a:rPr b="0" lang="en-US" sz="2800" spc="-1" strike="noStrike">
                <a:solidFill>
                  <a:srgbClr val="5b5249"/>
                </a:solidFill>
                <a:latin typeface="Lucida Sans"/>
              </a:rPr>
              <a:t>: usually the thumb-turn lock found on double-hung windows can easily be pried open. Add keyed locks to windows on lower floors, but avoid these locks on bedroom windows because they can slow escaping from a fire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1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ALARM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Lucida Sans"/>
                <a:ea typeface="Times New Roman"/>
              </a:rPr>
              <a:t>Electronic system that can be triggered by attempts to force open a door or window. Can be very simple (barking dog sound, loud siren) or complex (motion detector, electric eyes, intercom system). Can be set by family with a particular code. If alarm is activated, company monitoring the system will contact police/fire.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BIMETRIC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Lucida Sans"/>
                <a:ea typeface="Times New Roman"/>
              </a:rPr>
              <a:t>Identification of an individual by a unique physical characteristic (fingerprints, pattern of eye iris, vein patterns in hand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Lucida Sans"/>
                <a:ea typeface="Times New Roman"/>
              </a:rPr>
              <a:t> 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1T00:48:49Z</dcterms:created>
  <dc:creator> sherry brooks</dc:creator>
  <dc:description/>
  <dc:language>en-US</dc:language>
  <cp:lastModifiedBy> sherry brooks</cp:lastModifiedBy>
  <dcterms:modified xsi:type="dcterms:W3CDTF">2009-05-11T01:42:22Z</dcterms:modified>
  <cp:revision>2</cp:revision>
  <dc:subject/>
  <dc:title>8.02 </dc:title>
</cp:coreProperties>
</file>